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38B5-8034-4377-B66E-CE91C9F2B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32AD-64B8-4D77-A628-2BC81805F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CE59-741F-4F02-B134-0229420AC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7D25-CFD0-472A-B19A-B2A391CE1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1DC3-E817-4C72-9E78-096BF5F5B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996C-47A4-4B9D-A6BA-4179060D6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1833-3FF0-4BAB-A08F-F7583E156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D4A2-C1BA-49AF-AAD0-C9C3EB20E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A5C9-31C3-486B-A89B-2ACE8A3C7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7169-89DD-4B92-A5FF-A20D41F57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9E0F-BD8B-47FE-B1F3-8EB465F8C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F214-4A9B-436C-82C1-5B04B0B71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180B3-2468-402A-83F1-F8DAB56039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freeplaymusic.com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eb.mit.edu/invent/iow/cad.html" TargetMode="External"/><Relationship Id="rId3" Type="http://schemas.openxmlformats.org/officeDocument/2006/relationships/hyperlink" Target="http://web.mit.edu/invent/iow/cad.html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676520" y="990720"/>
            <a:ext cx="4800600" cy="2438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Gatorad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42" name=""/>
          <p:cNvSpPr/>
          <p:nvPr/>
        </p:nvSpPr>
        <p:spPr>
          <a:xfrm>
            <a:off x="6019920" y="4800600"/>
            <a:ext cx="2895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, Monday, March 08,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od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r #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4800600"/>
            <a:ext cx="57913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nd: Free Play Music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ully Loaded &amp; Ready 2 Go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arch 11, 2010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freeplaymusic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095880" y="274320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Cade"/>
          <p:cNvPicPr/>
          <p:nvPr/>
        </p:nvPicPr>
        <p:blipFill>
          <a:blip r:embed="rId1"/>
          <a:stretch/>
        </p:blipFill>
        <p:spPr>
          <a:xfrm>
            <a:off x="1981080" y="457200"/>
            <a:ext cx="4343400" cy="17524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04920" y="571500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melson MIT Program,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Gatorad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March 9, 2010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eb.mit.edu/invent/iow/cad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3124080"/>
            <a:ext cx="57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. Robert Cade invented Gatorade in 196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ntion: Gator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torade was invented in 196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torade became a household na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the Gators credited Gatorade in 1967, it gained notoriety and garnered media intere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2001, Gatorade was on its way to worldwide sales in bill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torade has expanded to include other products such as energy bars and as many as 15 Gatorade flavo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ntor: Robert C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bert Cade was born in 192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bert Cade was born in Flori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bert Cade was trained as an internist and nephrologi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bert Cade was working as a Medical Researcherat the University of Flori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bert Cade developed products similar to Gatorade such as Go-Energy Recovery-Shak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8T14:07:49Z</dcterms:created>
  <dc:creator>install</dc:creator>
  <dc:description/>
  <dc:language>en-US</dc:language>
  <cp:lastModifiedBy>install</cp:lastModifiedBy>
  <dcterms:modified xsi:type="dcterms:W3CDTF">2010-03-18T13:40:55Z</dcterms:modified>
  <cp:revision>6</cp:revision>
  <dc:subject/>
  <dc:title>Slide 1</dc:title>
</cp:coreProperties>
</file>